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ED60-D737-4B6B-AAFC-F662D1C5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6CDE-ED0D-4016-A270-96C3DB68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AECE-BB35-4C11-B7D9-11F94737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E56C-2BB7-4667-AB9B-20CE4BC9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54F3-056C-4E7A-9B52-F16B6CAE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234D-6DA6-4677-9DFE-64E47CF0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BE96-09E4-4F93-B810-F2E62FB3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B92D-224A-4CD4-BE73-4B04B44F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680E-148F-45E3-9AD4-AB986834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C67C-EBE2-4E1C-AE97-F5CCB120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2222-94CE-4909-A89B-00459DC8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2072-1D47-4F7B-93F2-C71B3425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A23F-142E-478E-A14A-8BC986F6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74C4-F86D-4B2E-89F7-0DD808F9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481B-813A-4D68-8138-171FEB9E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F11F-B965-48C5-929F-C48EBC1D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6B0A-8A01-4463-AB88-16343B3C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64157-4BD4-492B-A207-23EC6C3A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2D5D5-9184-43CD-A980-41E57A9C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56EA8-6AAF-4F1F-861C-A89E80B4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C5178-58B5-4F3D-9EA1-0A40F355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200FA-FE80-4335-90B1-55E097A9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AFE5-B42C-48F9-B169-788121C9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AD954-7535-4CBB-910F-35893DF7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B4BE1-B371-48D6-BF48-0144B302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3376B-0DF6-495D-BADF-4407CCDE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AE352-B2A7-4445-AFDE-FFA7F4BF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0987E-69BF-4D7E-97A6-7C36F5C4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11D24-C701-4796-A528-F44E8D92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6E06A-62AC-4A33-8DB4-9347C380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DB0D2-1744-44E6-A945-BA496B08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2CB69-FB6E-4DF1-A5EF-09B50EBE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3CC0A-0FED-4641-9A83-25EA854D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0406-EAAE-4C78-9CD7-1420610C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17C70-A28C-4183-BE42-6CDFC2C9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58D53-F607-414E-B13F-B56ABB95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9167C-E389-476E-AA0F-2A4823F4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E8112-258D-4ACC-8549-716EEB05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9F68F-14D4-49DF-9932-5B2D74D1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0E842-4600-4F67-80EE-8D1B75B5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00E98-1FE5-447D-A2AB-F8DD77D7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FC115-92D9-48E2-AE4F-C3B56CED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D02BA-5D54-48EA-A332-DECFCE8E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D17A0-97B6-4FEC-BB56-B210FFF7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74EA-5A8C-4EC2-9DFA-C3D70F6C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48B5D-55B0-4676-8364-19BBC0BF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261AC-71AC-44C8-B908-8F34AFF5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3382F-C1EA-42B2-957C-F7BDC627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6AD5C-C5A1-4504-9894-10A7AF8E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928D2-C6C1-4784-89E8-215DE988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F82D3-E1B4-4E50-834D-1AE65FFB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14B09-567A-4969-9C7A-0FE834FE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FADD0-C342-4B12-B15C-B3FEE945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A0A5F-425B-4DB4-9DDA-33E56925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8F17A-1F54-4D86-B93A-149AA75B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D474-ABCE-4841-900C-19DFCB51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334A8-E0C6-4733-9E07-8748832A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751A1-CD34-4C01-8FA9-4DAB214E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82354-0BE0-49BC-A57F-84A8956C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21E44-DA75-438C-92A4-22F0EB09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1D357-DAB9-4F8B-8659-8C40E56E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A9A49-B557-4359-81A1-B238F9CB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CDF0D-8A89-4917-B049-9A2837DA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19C81-FAB1-4C30-8137-7585707A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286A2-E033-42F2-A3CA-AAB7F4E0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B1F55-6023-4D5A-BB0F-D11309C5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CAF4-5080-4585-91CF-F9086FBD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A526E-8955-4AC8-AC3F-6C85A407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FFB86-082F-4DFF-83CE-E756CC7D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21539-29E8-4AA1-92A8-ED946938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2F7BD-BE71-4C2E-8694-42EE0009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A5B89-566F-4369-87A5-07097440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028E6-0E60-46D4-8D92-7718C84E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A29F2-E136-4AB2-B2B0-2A6F9317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9C6BE-C8FB-4818-8C3E-42768FB9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119FB-DACD-46AB-93A5-4527CED1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CAED6-D1A3-40F0-B7D6-7CA6DEBD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A63D-0FB7-44BF-BC18-EE9A2710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2EEB5-363E-4475-9FA3-311DCA42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ACED7-B668-4436-85EC-0EA0ABF5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0C6CF-8F4C-4BA7-8ADA-4EF25398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1F8CB-4E45-4EC0-8648-A61BE979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98779-0F31-46E9-B7B3-AB419C14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3E1E-8584-40C6-A3D9-127D45A8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EF48-635C-487A-98FA-03CD7526B86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3D69-8374-4780-AF50-39848B24725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DCB4-3A1C-4BEB-88E9-B23543188A9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8B1E-B786-49D3-8D40-56487BE4176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2DFC-CF16-4002-B86F-26A8DAF0D6D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672C-4A91-4E54-A4E1-A1E5616BA54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D48C-F551-4A35-A992-8B98FB42835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680" y="1406160"/>
            <a:ext cx="7848720" cy="270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Candara"/>
              </a:rPr>
              <a:t>SS8 </a:t>
            </a:r>
            <a:br>
              <a:rPr sz="5900"/>
            </a:br>
            <a:br>
              <a:rPr sz="5900"/>
            </a:br>
            <a:r>
              <a:rPr b="0" lang="en-US" sz="5900" spc="-1" strike="noStrike">
                <a:solidFill>
                  <a:srgbClr val="ffffff"/>
                </a:solidFill>
                <a:latin typeface="Candara"/>
              </a:rPr>
              <a:t>Racism</a:t>
            </a:r>
            <a:endParaRPr b="0" lang="en-US" sz="5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e87"/>
                </a:solidFill>
                <a:latin typeface="Candara"/>
              </a:rPr>
              <a:t>A view based on previous ideas or opinions rather than on knowledge or facts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prejudic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 </a:t>
            </a:r>
            <a:r>
              <a:rPr b="0" lang="en-US" sz="4800" spc="-1" strike="noStrike">
                <a:solidFill>
                  <a:srgbClr val="073e87"/>
                </a:solidFill>
                <a:latin typeface="Candara"/>
              </a:rPr>
              <a:t>Treating a particular group or individual differently or unfairly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discriminatio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e87"/>
                </a:solidFill>
                <a:latin typeface="Candara"/>
              </a:rPr>
              <a:t>Unfair treatment or act direct at a group or individual by a society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social injustic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e87"/>
                </a:solidFill>
                <a:latin typeface="Candara"/>
              </a:rPr>
              <a:t>The belief that one’s own culture is better than other cultures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ethnocentrism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e87"/>
                </a:solidFill>
                <a:latin typeface="Candara"/>
              </a:rPr>
              <a:t>An image that represents all members of the group being the same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stereotyp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37720" y="266652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e87"/>
                </a:solidFill>
                <a:latin typeface="Candara"/>
              </a:rPr>
              <a:t>Mistreatment of people on the basis of race, place of origin, or ancestry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racism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37720" y="266652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73e87"/>
                </a:solidFill>
                <a:latin typeface="Candara"/>
              </a:rPr>
              <a:t>Being/acting against the mistreatment of people on the basis of race, place of origin, or ancestry.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anti-racism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01:12:47Z</dcterms:created>
  <dc:creator>ladmin</dc:creator>
  <dc:description/>
  <dc:language>en-US</dc:language>
  <cp:lastModifiedBy>ladmin</cp:lastModifiedBy>
  <dcterms:modified xsi:type="dcterms:W3CDTF">2014-11-18T23:42:31Z</dcterms:modified>
  <cp:revision>9</cp:revision>
  <dc:subject/>
  <dc:title>PowerPoint Presentation</dc:title>
</cp:coreProperties>
</file>